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1C4-4883-4776-AB9D-DB1385E5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82D-BC36-4191-B13B-7D4BE56B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C33-8416-4A5D-A7B0-43EE91FE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614-A038-459A-A04B-A981F976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D45-BBCA-41CF-88FC-85BCAED5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AC3-635B-445D-A111-CBA56285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852-FA62-4416-AEB6-3675A4B9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E0A-8AF9-4DEC-ABFA-120BFD0A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2C9-7569-4340-B6A2-B663B4A6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C64-B669-4CB1-88B4-29638B30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BFD-A734-4C5D-B98B-57E78F4A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D88-1622-4002-AF0D-FEF7563B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A0F7-826E-4753-B7D4-7D0CD1E91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3520" y="1707840"/>
            <a:ext cx="7536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О, съботно училищ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Божие светилищ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показваш ми към Бога друм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радваш сърце и у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3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6480" y="1930320"/>
            <a:ext cx="8771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В теб уча аз, че зарад нас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търпял Спасителят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на кръста смърт, от грешни срам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та дал спасение н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3680" y="204156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Благодарим Ти, Отче наш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най-верен Си наш Страж!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Ти и до днес с любов сега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държиш ни при Хри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96760" y="2041560"/>
            <a:ext cx="7288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О, съботно училищ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Божие светилище!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В душата ми ти радост влей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и в пътя ми все гр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16:48Z</dcterms:created>
  <dc:creator>TrifonTrifonow</dc:creator>
  <dc:description/>
  <dc:language>en-US</dc:language>
  <cp:lastModifiedBy>TrifonTrifonow</cp:lastModifiedBy>
  <dcterms:modified xsi:type="dcterms:W3CDTF">2005-09-06T06:22:12Z</dcterms:modified>
  <cp:revision>3</cp:revision>
  <dc:subject/>
  <dc:title>Slide 1</dc:title>
</cp:coreProperties>
</file>